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18D-F9C8-497B-8BA9-184B66BE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97E-5917-4D3D-A119-8EB90022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3C9-9C2C-445A-98E8-B52310B5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19D-D78E-499A-BB39-37BF3196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EEA-E852-4F14-99CE-F4B1050D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377-606F-4DC6-9907-617A6C5B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C7D-56CA-407B-A272-CDA39E51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F87-C705-4463-813E-0466F444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54F-2B74-4BEB-856B-47CC240B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C0B-FA0D-4409-AEF7-D1B61BE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CEB-1C3B-488C-8C7C-B1A6BF1C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C2A-B20A-45FE-8785-D6A43EA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F046D-9835-4050-A779-B1BD28018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3903480" y="163368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M_Prenom_TD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2519640" y="2938320"/>
            <a:ext cx="84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5154840" y="2975040"/>
            <a:ext cx="79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7052760" y="2975040"/>
            <a:ext cx="1265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753720" y="4294080"/>
            <a:ext cx="78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6431400" y="4290840"/>
            <a:ext cx="77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necteur droit 11"/>
          <p:cNvSpPr/>
          <p:nvPr/>
        </p:nvSpPr>
        <p:spPr>
          <a:xfrm flipH="1">
            <a:off x="2941200" y="2001960"/>
            <a:ext cx="1965240" cy="93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3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16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18"/>
          <p:cNvSpPr/>
          <p:nvPr/>
        </p:nvSpPr>
        <p:spPr>
          <a:xfrm flipH="1">
            <a:off x="4146120" y="3344760"/>
            <a:ext cx="1405080" cy="949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necteur droit 22"/>
          <p:cNvSpPr/>
          <p:nvPr/>
        </p:nvSpPr>
        <p:spPr>
          <a:xfrm flipH="1">
            <a:off x="5543640" y="3344760"/>
            <a:ext cx="7920" cy="11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cteur droit 24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>GR</cp:lastModifiedBy>
  <dcterms:modified xsi:type="dcterms:W3CDTF">2018-09-04T20:06:15Z</dcterms:modified>
  <cp:revision>6</cp:revision>
  <dc:subject/>
  <dc:title>Présentation PowerPoint</dc:title>
</cp:coreProperties>
</file>