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AF8-EADA-4617-9D38-4D4E5E82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031-FA63-46AD-9C1A-A02A4035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EAB-C455-42EC-9015-FD52B521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9BE-1CDA-4649-A0AA-D381A24C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960-A778-4FF2-9040-3F26E3D7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5CB-F07E-4467-8BBA-31BEE8CA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FC6-7363-429C-9726-E6E87D49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857-4D98-48C6-A5F9-F9A3FE3D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3CF-4AEA-4C73-881D-E0CB5577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7E0-0A54-47F6-80E9-F5805E0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EFE-FB10-4352-AEF3-24071B0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57D-9C84-4F99-8B24-73CED207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16A6-984E-4923-9D44-98D5DE5D6C5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228600"/>
            <a:ext cx="13716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175248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7524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ur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8954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ex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419720"/>
            <a:ext cx="1219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0"/>
            <a:endCxn id="41" idx="2"/>
          </p:cNvCxnSpPr>
          <p:nvPr/>
        </p:nvCxnSpPr>
        <p:spPr>
          <a:xfrm flipV="1">
            <a:off x="3314520" y="762120"/>
            <a:ext cx="125784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5" idx="0"/>
            <a:endCxn id="43" idx="2"/>
          </p:cNvCxnSpPr>
          <p:nvPr/>
        </p:nvCxnSpPr>
        <p:spPr>
          <a:xfrm flipV="1">
            <a:off x="876240" y="2286000"/>
            <a:ext cx="24386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9" idx="0"/>
            <a:endCxn id="43" idx="2"/>
          </p:cNvCxnSpPr>
          <p:nvPr/>
        </p:nvCxnSpPr>
        <p:spPr>
          <a:xfrm flipV="1">
            <a:off x="1866960" y="2286000"/>
            <a:ext cx="14479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8" idx="0"/>
            <a:endCxn id="43" idx="2"/>
          </p:cNvCxnSpPr>
          <p:nvPr/>
        </p:nvCxnSpPr>
        <p:spPr>
          <a:xfrm flipV="1">
            <a:off x="2857320" y="2286000"/>
            <a:ext cx="45756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7" idx="0"/>
            <a:endCxn id="43" idx="2"/>
          </p:cNvCxnSpPr>
          <p:nvPr/>
        </p:nvCxnSpPr>
        <p:spPr>
          <a:xfrm flipH="1" flipV="1">
            <a:off x="3314520" y="2286000"/>
            <a:ext cx="5338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43" idx="2"/>
          </p:cNvCxnSpPr>
          <p:nvPr/>
        </p:nvCxnSpPr>
        <p:spPr>
          <a:xfrm flipH="1" flipV="1">
            <a:off x="3314520" y="2286000"/>
            <a:ext cx="152460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3" idx="0"/>
            <a:endCxn id="44" idx="2"/>
          </p:cNvCxnSpPr>
          <p:nvPr/>
        </p:nvCxnSpPr>
        <p:spPr>
          <a:xfrm flipV="1">
            <a:off x="6705360" y="2286000"/>
            <a:ext cx="5720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4" idx="0"/>
            <a:endCxn id="44" idx="2"/>
          </p:cNvCxnSpPr>
          <p:nvPr/>
        </p:nvCxnSpPr>
        <p:spPr>
          <a:xfrm flipH="1" flipV="1">
            <a:off x="7277040" y="2286000"/>
            <a:ext cx="8002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0" idx="0"/>
            <a:endCxn id="46" idx="2"/>
          </p:cNvCxnSpPr>
          <p:nvPr/>
        </p:nvCxnSpPr>
        <p:spPr>
          <a:xfrm flipV="1">
            <a:off x="1600200" y="3429000"/>
            <a:ext cx="32389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1" idx="0"/>
            <a:endCxn id="46" idx="2"/>
          </p:cNvCxnSpPr>
          <p:nvPr/>
        </p:nvCxnSpPr>
        <p:spPr>
          <a:xfrm flipV="1">
            <a:off x="3047760" y="3429000"/>
            <a:ext cx="17913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2" idx="0"/>
            <a:endCxn id="46" idx="2"/>
          </p:cNvCxnSpPr>
          <p:nvPr/>
        </p:nvCxnSpPr>
        <p:spPr>
          <a:xfrm flipV="1">
            <a:off x="4572000" y="3429000"/>
            <a:ext cx="2671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44" idx="0"/>
            <a:endCxn id="41" idx="2"/>
          </p:cNvCxnSpPr>
          <p:nvPr/>
        </p:nvCxnSpPr>
        <p:spPr>
          <a:xfrm flipH="1" flipV="1">
            <a:off x="4572000" y="762120"/>
            <a:ext cx="270540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640152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152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2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224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152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9508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619760" y="342900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66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9508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661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9616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661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9508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61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42" idx="0"/>
            <a:endCxn id="41" idx="2"/>
          </p:cNvCxnSpPr>
          <p:nvPr/>
        </p:nvCxnSpPr>
        <p:spPr>
          <a:xfrm flipV="1">
            <a:off x="1066680" y="762120"/>
            <a:ext cx="350568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2818440" y="54100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ATelecharger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64456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6386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160" y="58672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60958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b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45560" y="54100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Menerve.m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07024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6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46640" y="56386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66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17240" y="54100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lettre.r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43000" y="4952880"/>
            <a:ext cx="22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9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6160" y="563868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text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90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19040" y="5867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90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8800" y="63244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upvc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3:25:22Z</dcterms:created>
  <dc:creator>Utilisateur de la version d'évaluation de Office 2004</dc:creator>
  <dc:description/>
  <dc:language>en-US</dc:language>
  <cp:lastModifiedBy>Utilisateur de la version d'évaluation de Office 2004</cp:lastModifiedBy>
  <dcterms:modified xsi:type="dcterms:W3CDTF">2008-07-22T13:51:52Z</dcterms:modified>
  <cp:revision>7</cp:revision>
  <dc:subject/>
  <dc:title>Présentation PowerPoint</dc:title>
</cp:coreProperties>
</file>