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EF8-3762-42C8-9702-08F70AD9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E9A-4AD3-4822-B292-6BDEADFB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5A0-1976-4322-9F63-9547218A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FAA-D1DA-4C72-B602-AE85F265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5AC-B924-4495-9B71-EFCCE80C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432-25C7-48F8-A00D-7768E757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8F15-8776-4B1C-A282-B792FD54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5D2-3B77-46A5-B0E0-5E982C00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27E-0BBC-459C-8100-3F61FBAE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843-C9DF-470B-96D6-60E9F01E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D09-A681-44EE-87E0-B40AFF5F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AC8-AF12-4582-B1EA-7EAC4414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6C0D7-FB6E-492A-878A-0986F8C86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"/>
          <p:cNvSpPr/>
          <p:nvPr/>
        </p:nvSpPr>
        <p:spPr>
          <a:xfrm>
            <a:off x="3903480" y="1633680"/>
            <a:ext cx="2004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M_Prenom_TD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2519640" y="2938320"/>
            <a:ext cx="843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5"/>
          <p:cNvSpPr/>
          <p:nvPr/>
        </p:nvSpPr>
        <p:spPr>
          <a:xfrm>
            <a:off x="5154840" y="2975040"/>
            <a:ext cx="79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6"/>
          <p:cNvSpPr/>
          <p:nvPr/>
        </p:nvSpPr>
        <p:spPr>
          <a:xfrm>
            <a:off x="7052760" y="2975040"/>
            <a:ext cx="1265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uvegar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ZoneTexte 7"/>
          <p:cNvSpPr/>
          <p:nvPr/>
        </p:nvSpPr>
        <p:spPr>
          <a:xfrm>
            <a:off x="3753720" y="4294080"/>
            <a:ext cx="785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ZoneTexte 8"/>
          <p:cNvSpPr/>
          <p:nvPr/>
        </p:nvSpPr>
        <p:spPr>
          <a:xfrm>
            <a:off x="5056200" y="4511520"/>
            <a:ext cx="976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bl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9"/>
          <p:cNvSpPr/>
          <p:nvPr/>
        </p:nvSpPr>
        <p:spPr>
          <a:xfrm>
            <a:off x="6431400" y="4290840"/>
            <a:ext cx="77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eA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necteur droit 11"/>
          <p:cNvSpPr/>
          <p:nvPr/>
        </p:nvSpPr>
        <p:spPr>
          <a:xfrm flipH="1">
            <a:off x="2941200" y="2001960"/>
            <a:ext cx="1965240" cy="936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necteur droit 13"/>
          <p:cNvSpPr/>
          <p:nvPr/>
        </p:nvSpPr>
        <p:spPr>
          <a:xfrm>
            <a:off x="4906800" y="2001960"/>
            <a:ext cx="644760" cy="97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16"/>
          <p:cNvSpPr/>
          <p:nvPr/>
        </p:nvSpPr>
        <p:spPr>
          <a:xfrm>
            <a:off x="4906800" y="2001960"/>
            <a:ext cx="2778120" cy="97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necteur droit 18"/>
          <p:cNvSpPr/>
          <p:nvPr/>
        </p:nvSpPr>
        <p:spPr>
          <a:xfrm flipH="1">
            <a:off x="4146120" y="3344760"/>
            <a:ext cx="1405080" cy="949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necteur droit 22"/>
          <p:cNvSpPr/>
          <p:nvPr/>
        </p:nvSpPr>
        <p:spPr>
          <a:xfrm flipH="1">
            <a:off x="5543640" y="3344760"/>
            <a:ext cx="7920" cy="1166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cteur droit 24"/>
          <p:cNvSpPr/>
          <p:nvPr/>
        </p:nvSpPr>
        <p:spPr>
          <a:xfrm>
            <a:off x="5551560" y="3344760"/>
            <a:ext cx="1266840" cy="94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0T19:45:39Z</dcterms:created>
  <dc:creator>GR</dc:creator>
  <dc:description/>
  <dc:language>en-US</dc:language>
  <cp:lastModifiedBy>GR</cp:lastModifiedBy>
  <dcterms:modified xsi:type="dcterms:W3CDTF">2018-09-04T20:06:15Z</dcterms:modified>
  <cp:revision>6</cp:revision>
  <dc:subject/>
  <dc:title>Présentation PowerPoint</dc:title>
</cp:coreProperties>
</file>