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674-96C7-4F6A-A706-9B3B0FE8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929-9DAA-4EAE-9C62-D211A792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81A-72C1-450A-B544-3F927420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595-27BD-4D2D-AD61-E4ADA572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375-1A9A-4E14-A959-5090CFEF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4C9-3FD9-4513-A46A-9722D99E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A1B-6578-4EF1-BA80-CCDB2A7F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E46-D0D3-4F36-80EC-76DE5713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7CB-D856-4928-A9C3-BABED76A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246-3185-4B35-8CF8-B01F1708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B87-70EB-4B52-BFD2-E86DCC5E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342-48AE-438C-956B-4AEE60E6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80CA-5BFD-4B92-AD1F-826018C5A31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228600"/>
            <a:ext cx="137160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1752480"/>
            <a:ext cx="144756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S_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1752480"/>
            <a:ext cx="19051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urs_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89548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419720"/>
            <a:ext cx="121896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ex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4419720"/>
            <a:ext cx="1219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4419720"/>
            <a:ext cx="121896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8954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28954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3" idx="0"/>
            <a:endCxn id="41" idx="2"/>
          </p:cNvCxnSpPr>
          <p:nvPr/>
        </p:nvCxnSpPr>
        <p:spPr>
          <a:xfrm flipV="1">
            <a:off x="3314520" y="762120"/>
            <a:ext cx="1257840" cy="99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5" idx="0"/>
            <a:endCxn id="43" idx="2"/>
          </p:cNvCxnSpPr>
          <p:nvPr/>
        </p:nvCxnSpPr>
        <p:spPr>
          <a:xfrm flipV="1">
            <a:off x="876240" y="2286000"/>
            <a:ext cx="243864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9" idx="0"/>
            <a:endCxn id="43" idx="2"/>
          </p:cNvCxnSpPr>
          <p:nvPr/>
        </p:nvCxnSpPr>
        <p:spPr>
          <a:xfrm flipV="1">
            <a:off x="1866960" y="2286000"/>
            <a:ext cx="14479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8" idx="0"/>
            <a:endCxn id="43" idx="2"/>
          </p:cNvCxnSpPr>
          <p:nvPr/>
        </p:nvCxnSpPr>
        <p:spPr>
          <a:xfrm flipV="1">
            <a:off x="2857320" y="2286000"/>
            <a:ext cx="45756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7" idx="0"/>
            <a:endCxn id="43" idx="2"/>
          </p:cNvCxnSpPr>
          <p:nvPr/>
        </p:nvCxnSpPr>
        <p:spPr>
          <a:xfrm flipH="1" flipV="1">
            <a:off x="3314520" y="2286000"/>
            <a:ext cx="53388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43" idx="2"/>
          </p:cNvCxnSpPr>
          <p:nvPr/>
        </p:nvCxnSpPr>
        <p:spPr>
          <a:xfrm flipH="1" flipV="1">
            <a:off x="3314520" y="2286000"/>
            <a:ext cx="152460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53" idx="0"/>
            <a:endCxn id="44" idx="2"/>
          </p:cNvCxnSpPr>
          <p:nvPr/>
        </p:nvCxnSpPr>
        <p:spPr>
          <a:xfrm flipV="1">
            <a:off x="6705360" y="2286000"/>
            <a:ext cx="57204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4" idx="0"/>
            <a:endCxn id="44" idx="2"/>
          </p:cNvCxnSpPr>
          <p:nvPr/>
        </p:nvCxnSpPr>
        <p:spPr>
          <a:xfrm flipH="1" flipV="1">
            <a:off x="7277040" y="2286000"/>
            <a:ext cx="80028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50" idx="0"/>
            <a:endCxn id="46" idx="2"/>
          </p:cNvCxnSpPr>
          <p:nvPr/>
        </p:nvCxnSpPr>
        <p:spPr>
          <a:xfrm flipV="1">
            <a:off x="1600200" y="3429000"/>
            <a:ext cx="32389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1" idx="0"/>
            <a:endCxn id="46" idx="2"/>
          </p:cNvCxnSpPr>
          <p:nvPr/>
        </p:nvCxnSpPr>
        <p:spPr>
          <a:xfrm flipV="1">
            <a:off x="3047760" y="3429000"/>
            <a:ext cx="179136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52" idx="0"/>
            <a:endCxn id="46" idx="2"/>
          </p:cNvCxnSpPr>
          <p:nvPr/>
        </p:nvCxnSpPr>
        <p:spPr>
          <a:xfrm flipV="1">
            <a:off x="4572000" y="3429000"/>
            <a:ext cx="2671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44" idx="0"/>
            <a:endCxn id="41" idx="2"/>
          </p:cNvCxnSpPr>
          <p:nvPr/>
        </p:nvCxnSpPr>
        <p:spPr>
          <a:xfrm flipH="1" flipV="1">
            <a:off x="4572000" y="762120"/>
            <a:ext cx="2705400" cy="99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6401520" y="38862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1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429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1520" y="41148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2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2240" y="43434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1520" y="4572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5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95080" y="38862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1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619760" y="3429000"/>
            <a:ext cx="21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661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95080" y="41148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1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661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96160" y="43434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661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95080" y="4572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5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661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42" idx="0"/>
            <a:endCxn id="41" idx="2"/>
          </p:cNvCxnSpPr>
          <p:nvPr/>
        </p:nvCxnSpPr>
        <p:spPr>
          <a:xfrm flipV="1">
            <a:off x="1066680" y="762120"/>
            <a:ext cx="3505680" cy="99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2818440" y="5410080"/>
            <a:ext cx="19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ATelecharger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644560" y="4952880"/>
            <a:ext cx="21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563868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CoucherSoleil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160" y="58672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CoucherSoleil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609588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CoucherSoleil.b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248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45560" y="541008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Menerve.m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070240" y="4952880"/>
            <a:ext cx="21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66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46640" y="56386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660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17240" y="541008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lettre.rt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43000" y="4952880"/>
            <a:ext cx="223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90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16160" y="563868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text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900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19040" y="58672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900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8800" y="632448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upvc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477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3:25:22Z</dcterms:created>
  <dc:creator>Utilisateur de la version d'évaluation de Office 2004</dc:creator>
  <dc:description/>
  <dc:language>en-US</dc:language>
  <cp:lastModifiedBy>Utilisateur de la version d'évaluation de Office 2004</cp:lastModifiedBy>
  <dcterms:modified xsi:type="dcterms:W3CDTF">2008-07-22T13:51:52Z</dcterms:modified>
  <cp:revision>7</cp:revision>
  <dc:subject/>
  <dc:title>Présentation PowerPoint</dc:title>
</cp:coreProperties>
</file>