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FC9-A387-47B6-8F90-756F2DA4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428-8485-4EB0-80F1-284FE38F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C63-EFBD-4844-ABF0-FBBF4164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5CC-4C58-4BB2-8C02-B2609E22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4D5-3D43-4122-8CB9-D0EDE23E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ED5-AC9F-4B5B-ACDF-B3502B19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876-8E7F-406A-9662-ABF4A068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B3E-96E9-4D84-8F0B-17B7EAFB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CCD-E140-4C98-A2D7-02D38A4D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361-E81C-4417-9430-E7B67A75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544-1531-4F12-BE98-E4FA582D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193-43EA-4048-A527-2FD3A621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E8848-68B5-46DB-ABDD-F6A10F838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3903480" y="1633680"/>
            <a:ext cx="2004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M_Prenom_TD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2519640" y="2938320"/>
            <a:ext cx="84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5154840" y="2975040"/>
            <a:ext cx="79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6"/>
          <p:cNvSpPr/>
          <p:nvPr/>
        </p:nvSpPr>
        <p:spPr>
          <a:xfrm>
            <a:off x="7052760" y="2975040"/>
            <a:ext cx="1265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uvegar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7"/>
          <p:cNvSpPr/>
          <p:nvPr/>
        </p:nvSpPr>
        <p:spPr>
          <a:xfrm>
            <a:off x="3753720" y="4294080"/>
            <a:ext cx="785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8"/>
          <p:cNvSpPr/>
          <p:nvPr/>
        </p:nvSpPr>
        <p:spPr>
          <a:xfrm>
            <a:off x="5056200" y="4511520"/>
            <a:ext cx="976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9"/>
          <p:cNvSpPr/>
          <p:nvPr/>
        </p:nvSpPr>
        <p:spPr>
          <a:xfrm>
            <a:off x="6431400" y="4290840"/>
            <a:ext cx="77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necteur droit 11"/>
          <p:cNvSpPr/>
          <p:nvPr/>
        </p:nvSpPr>
        <p:spPr>
          <a:xfrm flipH="1">
            <a:off x="2941200" y="2001960"/>
            <a:ext cx="1965240" cy="936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necteur droit 13"/>
          <p:cNvSpPr/>
          <p:nvPr/>
        </p:nvSpPr>
        <p:spPr>
          <a:xfrm>
            <a:off x="4906800" y="2001960"/>
            <a:ext cx="64476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16"/>
          <p:cNvSpPr/>
          <p:nvPr/>
        </p:nvSpPr>
        <p:spPr>
          <a:xfrm>
            <a:off x="4906800" y="2001960"/>
            <a:ext cx="277812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necteur droit 18"/>
          <p:cNvSpPr/>
          <p:nvPr/>
        </p:nvSpPr>
        <p:spPr>
          <a:xfrm flipH="1">
            <a:off x="4146120" y="3344760"/>
            <a:ext cx="1405080" cy="949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necteur droit 22"/>
          <p:cNvSpPr/>
          <p:nvPr/>
        </p:nvSpPr>
        <p:spPr>
          <a:xfrm flipH="1">
            <a:off x="5543640" y="3344760"/>
            <a:ext cx="7920" cy="1166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cteur droit 24"/>
          <p:cNvSpPr/>
          <p:nvPr/>
        </p:nvSpPr>
        <p:spPr>
          <a:xfrm>
            <a:off x="5551560" y="3344760"/>
            <a:ext cx="1266840" cy="9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9:45:39Z</dcterms:created>
  <dc:creator>GR</dc:creator>
  <dc:description/>
  <dc:language>en-US</dc:language>
  <cp:lastModifiedBy>GR</cp:lastModifiedBy>
  <dcterms:modified xsi:type="dcterms:W3CDTF">2018-09-04T20:06:15Z</dcterms:modified>
  <cp:revision>6</cp:revision>
  <dc:subject/>
  <dc:title>Présentation PowerPoint</dc:title>
</cp:coreProperties>
</file>