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64C1-6CB0-4B1B-9C86-F759F0A8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1328-01A7-4D80-BED4-4A0A3CE2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22E-21CA-4B5E-B58E-D69D9F60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2072-7EC4-4236-A121-F928B883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E8A-E270-45D8-B349-30391036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C25-D6BC-4553-B5EC-34D46655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4E88-CFA3-42F3-8EB6-5E53E52D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4FC-5D6F-425A-8855-85222E5B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D54-382C-4610-B44F-88AEF52B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730-CB96-49CB-ABC0-2EFBD9E4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2C5-6723-42A7-B7E7-C826F799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B77-6859-44AD-BA09-A3346142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06CA1-4F7A-4560-8E28-18D42EC1B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3903480" y="1633680"/>
            <a:ext cx="2004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M_Prenom_TD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2519640" y="2938320"/>
            <a:ext cx="843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5"/>
          <p:cNvSpPr/>
          <p:nvPr/>
        </p:nvSpPr>
        <p:spPr>
          <a:xfrm>
            <a:off x="5154840" y="2975040"/>
            <a:ext cx="79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6"/>
          <p:cNvSpPr/>
          <p:nvPr/>
        </p:nvSpPr>
        <p:spPr>
          <a:xfrm>
            <a:off x="7052760" y="2975040"/>
            <a:ext cx="1265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uvegar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ZoneTexte 7"/>
          <p:cNvSpPr/>
          <p:nvPr/>
        </p:nvSpPr>
        <p:spPr>
          <a:xfrm>
            <a:off x="3753720" y="4294080"/>
            <a:ext cx="785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oneTexte 8"/>
          <p:cNvSpPr/>
          <p:nvPr/>
        </p:nvSpPr>
        <p:spPr>
          <a:xfrm>
            <a:off x="5056200" y="4511520"/>
            <a:ext cx="976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bl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9"/>
          <p:cNvSpPr/>
          <p:nvPr/>
        </p:nvSpPr>
        <p:spPr>
          <a:xfrm>
            <a:off x="6431400" y="4290840"/>
            <a:ext cx="77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e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necteur droit 11"/>
          <p:cNvSpPr/>
          <p:nvPr/>
        </p:nvSpPr>
        <p:spPr>
          <a:xfrm flipH="1">
            <a:off x="2941200" y="2001960"/>
            <a:ext cx="1965240" cy="936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necteur droit 13"/>
          <p:cNvSpPr/>
          <p:nvPr/>
        </p:nvSpPr>
        <p:spPr>
          <a:xfrm>
            <a:off x="4906800" y="2001960"/>
            <a:ext cx="644760" cy="97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16"/>
          <p:cNvSpPr/>
          <p:nvPr/>
        </p:nvSpPr>
        <p:spPr>
          <a:xfrm>
            <a:off x="4906800" y="2001960"/>
            <a:ext cx="2778120" cy="97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necteur droit 18"/>
          <p:cNvSpPr/>
          <p:nvPr/>
        </p:nvSpPr>
        <p:spPr>
          <a:xfrm flipH="1">
            <a:off x="4146120" y="3344760"/>
            <a:ext cx="1405080" cy="949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necteur droit 22"/>
          <p:cNvSpPr/>
          <p:nvPr/>
        </p:nvSpPr>
        <p:spPr>
          <a:xfrm flipH="1">
            <a:off x="5543640" y="3344760"/>
            <a:ext cx="7920" cy="1166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cteur droit 24"/>
          <p:cNvSpPr/>
          <p:nvPr/>
        </p:nvSpPr>
        <p:spPr>
          <a:xfrm>
            <a:off x="5551560" y="3344760"/>
            <a:ext cx="1266840" cy="94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0T19:45:39Z</dcterms:created>
  <dc:creator>GR</dc:creator>
  <dc:description/>
  <dc:language>en-US</dc:language>
  <cp:lastModifiedBy>GR</cp:lastModifiedBy>
  <dcterms:modified xsi:type="dcterms:W3CDTF">2018-09-04T20:06:15Z</dcterms:modified>
  <cp:revision>6</cp:revision>
  <dc:subject/>
  <dc:title>Présentation PowerPoint</dc:title>
</cp:coreProperties>
</file>