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7BFC-0C0D-417F-A388-47DBE9E37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0D5F-2A2A-4467-A853-31E7732E2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04EE-945D-4049-B805-ED9A563F4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D388-9F8F-422C-81CE-A63489D47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2C4F-0E4D-4756-A361-018EB1AEF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31BF-9136-495C-80FE-2899F334E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018C-B942-42F0-8B50-33CFD398A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6D19-3722-4143-B8E0-09DFA5F76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2E36-00B9-4575-B203-D58EA6D79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1F9A-792B-49C1-A928-DBDB4C26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4094-5F31-4063-B4B8-BB7CB3CE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38AB-C7DF-4360-BDA5-B42DECA2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7000E-6B02-47C3-97A0-CD6EF847701F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228600"/>
            <a:ext cx="137160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752480"/>
            <a:ext cx="121932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Pe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90920" y="1752480"/>
            <a:ext cx="144756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TDS_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324480" y="1752480"/>
            <a:ext cx="190512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Cours_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89548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TD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289548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TD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289548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TD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38280" y="2895480"/>
            <a:ext cx="83844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TD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47920" y="289548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TD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4419720"/>
            <a:ext cx="121896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Tex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38280" y="4419720"/>
            <a:ext cx="121932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4419720"/>
            <a:ext cx="121896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95880" y="2895480"/>
            <a:ext cx="121932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467480" y="2895480"/>
            <a:ext cx="121932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43" idx="0"/>
            <a:endCxn id="41" idx="2"/>
          </p:cNvCxnSpPr>
          <p:nvPr/>
        </p:nvCxnSpPr>
        <p:spPr>
          <a:xfrm flipV="1">
            <a:off x="3314520" y="762120"/>
            <a:ext cx="1257840" cy="990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" name=""/>
          <p:cNvCxnSpPr>
            <a:stCxn id="45" idx="0"/>
            <a:endCxn id="43" idx="2"/>
          </p:cNvCxnSpPr>
          <p:nvPr/>
        </p:nvCxnSpPr>
        <p:spPr>
          <a:xfrm flipV="1">
            <a:off x="876240" y="2286000"/>
            <a:ext cx="243864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" name=""/>
          <p:cNvCxnSpPr>
            <a:stCxn id="49" idx="0"/>
            <a:endCxn id="43" idx="2"/>
          </p:cNvCxnSpPr>
          <p:nvPr/>
        </p:nvCxnSpPr>
        <p:spPr>
          <a:xfrm flipV="1">
            <a:off x="1866960" y="2286000"/>
            <a:ext cx="14479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" name=""/>
          <p:cNvCxnSpPr>
            <a:stCxn id="48" idx="0"/>
            <a:endCxn id="43" idx="2"/>
          </p:cNvCxnSpPr>
          <p:nvPr/>
        </p:nvCxnSpPr>
        <p:spPr>
          <a:xfrm flipV="1">
            <a:off x="2857320" y="2286000"/>
            <a:ext cx="45756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" name=""/>
          <p:cNvCxnSpPr>
            <a:stCxn id="47" idx="0"/>
            <a:endCxn id="43" idx="2"/>
          </p:cNvCxnSpPr>
          <p:nvPr/>
        </p:nvCxnSpPr>
        <p:spPr>
          <a:xfrm flipH="1" flipV="1">
            <a:off x="3314520" y="2286000"/>
            <a:ext cx="53388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" name=""/>
          <p:cNvCxnSpPr>
            <a:stCxn id="46" idx="0"/>
            <a:endCxn id="43" idx="2"/>
          </p:cNvCxnSpPr>
          <p:nvPr/>
        </p:nvCxnSpPr>
        <p:spPr>
          <a:xfrm flipH="1" flipV="1">
            <a:off x="3314520" y="2286000"/>
            <a:ext cx="152460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" name=""/>
          <p:cNvCxnSpPr>
            <a:stCxn id="53" idx="0"/>
            <a:endCxn id="44" idx="2"/>
          </p:cNvCxnSpPr>
          <p:nvPr/>
        </p:nvCxnSpPr>
        <p:spPr>
          <a:xfrm flipV="1">
            <a:off x="6705360" y="2286000"/>
            <a:ext cx="57204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" name=""/>
          <p:cNvCxnSpPr>
            <a:stCxn id="54" idx="0"/>
            <a:endCxn id="44" idx="2"/>
          </p:cNvCxnSpPr>
          <p:nvPr/>
        </p:nvCxnSpPr>
        <p:spPr>
          <a:xfrm flipH="1" flipV="1">
            <a:off x="7277040" y="2286000"/>
            <a:ext cx="80028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3" name=""/>
          <p:cNvCxnSpPr>
            <a:stCxn id="50" idx="0"/>
            <a:endCxn id="46" idx="2"/>
          </p:cNvCxnSpPr>
          <p:nvPr/>
        </p:nvCxnSpPr>
        <p:spPr>
          <a:xfrm flipV="1">
            <a:off x="1600200" y="3429000"/>
            <a:ext cx="323892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" name=""/>
          <p:cNvCxnSpPr>
            <a:stCxn id="51" idx="0"/>
            <a:endCxn id="46" idx="2"/>
          </p:cNvCxnSpPr>
          <p:nvPr/>
        </p:nvCxnSpPr>
        <p:spPr>
          <a:xfrm flipV="1">
            <a:off x="3047760" y="3429000"/>
            <a:ext cx="179136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" name=""/>
          <p:cNvCxnSpPr>
            <a:stCxn id="52" idx="0"/>
            <a:endCxn id="46" idx="2"/>
          </p:cNvCxnSpPr>
          <p:nvPr/>
        </p:nvCxnSpPr>
        <p:spPr>
          <a:xfrm flipV="1">
            <a:off x="4572000" y="3429000"/>
            <a:ext cx="26712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" name=""/>
          <p:cNvCxnSpPr>
            <a:stCxn id="44" idx="0"/>
            <a:endCxn id="41" idx="2"/>
          </p:cNvCxnSpPr>
          <p:nvPr/>
        </p:nvCxnSpPr>
        <p:spPr>
          <a:xfrm flipH="1" flipV="1">
            <a:off x="4572000" y="762120"/>
            <a:ext cx="2705400" cy="990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7" name=""/>
          <p:cNvSpPr/>
          <p:nvPr/>
        </p:nvSpPr>
        <p:spPr>
          <a:xfrm>
            <a:off x="6401520" y="3886200"/>
            <a:ext cx="8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D1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48520" y="34290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72200" y="4038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401520" y="4114800"/>
            <a:ext cx="8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D2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7220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402240" y="43434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7220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1520" y="4572000"/>
            <a:ext cx="8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D5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7220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795080" y="3886200"/>
            <a:ext cx="8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D1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7619760" y="3429000"/>
            <a:ext cx="2196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66120" y="4038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795080" y="4114800"/>
            <a:ext cx="8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D1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56612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796160" y="43434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6612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795080" y="4572000"/>
            <a:ext cx="8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D5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56612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"/>
          <p:cNvCxnSpPr>
            <a:stCxn id="42" idx="0"/>
            <a:endCxn id="41" idx="2"/>
          </p:cNvCxnSpPr>
          <p:nvPr/>
        </p:nvCxnSpPr>
        <p:spPr>
          <a:xfrm flipV="1">
            <a:off x="1066680" y="762120"/>
            <a:ext cx="3505680" cy="990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6" name=""/>
          <p:cNvSpPr/>
          <p:nvPr/>
        </p:nvSpPr>
        <p:spPr>
          <a:xfrm>
            <a:off x="2818440" y="5410080"/>
            <a:ext cx="198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ATelecharger.g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644560" y="4952880"/>
            <a:ext cx="2196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90920" y="5562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19520" y="5638680"/>
            <a:ext cx="197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D4-CoucherSoleil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90920" y="5791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819160" y="5867280"/>
            <a:ext cx="20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D4-CoucherSoleil2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90920" y="6019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19520" y="6095880"/>
            <a:ext cx="20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D4-CoucherSoleil.b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90920" y="6248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45560" y="5410080"/>
            <a:ext cx="17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D4-Menerve.mpe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070240" y="4952880"/>
            <a:ext cx="2196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16600" y="5562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246640" y="563868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16600" y="5791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17240" y="5410080"/>
            <a:ext cx="118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D4-lettre.rt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43000" y="4952880"/>
            <a:ext cx="2232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89000" y="5562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16160" y="5638680"/>
            <a:ext cx="12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D4-texte.t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89000" y="5791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319040" y="586728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89000" y="6019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18800" y="632448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oupvc.g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90920" y="6477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2T13:25:22Z</dcterms:created>
  <dc:creator>Utilisateur de la version d'évaluation de Office 2004</dc:creator>
  <dc:description/>
  <dc:language>en-US</dc:language>
  <cp:lastModifiedBy>Utilisateur de la version d'évaluation de Office 2004</cp:lastModifiedBy>
  <dcterms:modified xsi:type="dcterms:W3CDTF">2008-07-22T13:51:52Z</dcterms:modified>
  <cp:revision>7</cp:revision>
  <dc:subject/>
  <dc:title>Présentation PowerPoint</dc:title>
</cp:coreProperties>
</file>