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B57B-01A6-42F3-A75D-285807465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24BD-0F6B-495F-84D0-04B625439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D6A6-D9FD-4105-BB02-195A8451D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C3F3-2AA9-4F3B-B0DC-AA4478DDD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6D78-0A22-48FD-99C3-7BFC617D2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E425-93C2-49B8-B7D8-9266CB477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3C18-5B9D-49D8-A28F-918425A7F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529F-7734-464B-A379-80B9E5996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A43D-3B82-4AFB-8B40-E81898C43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52F1-FE3F-42A5-A4FB-B9AE23B84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6C00-4B62-43D6-AFFC-F67E05E40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C7B3-E5B0-4216-AC99-2D7F3D6AE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908FA4-FB33-42DE-BC3C-535399F667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3"/>
          <p:cNvSpPr/>
          <p:nvPr/>
        </p:nvSpPr>
        <p:spPr>
          <a:xfrm>
            <a:off x="3903480" y="1633680"/>
            <a:ext cx="2004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OM_Prenom_TD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ZoneTexte 4"/>
          <p:cNvSpPr/>
          <p:nvPr/>
        </p:nvSpPr>
        <p:spPr>
          <a:xfrm>
            <a:off x="2519640" y="2938320"/>
            <a:ext cx="843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ag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ZoneTexte 5"/>
          <p:cNvSpPr/>
          <p:nvPr/>
        </p:nvSpPr>
        <p:spPr>
          <a:xfrm>
            <a:off x="5154840" y="2975040"/>
            <a:ext cx="793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t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ZoneTexte 6"/>
          <p:cNvSpPr/>
          <p:nvPr/>
        </p:nvSpPr>
        <p:spPr>
          <a:xfrm>
            <a:off x="7052760" y="2975040"/>
            <a:ext cx="1265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auvegar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ZoneTexte 7"/>
          <p:cNvSpPr/>
          <p:nvPr/>
        </p:nvSpPr>
        <p:spPr>
          <a:xfrm>
            <a:off x="3753720" y="4294080"/>
            <a:ext cx="785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ZoneTexte 8"/>
          <p:cNvSpPr/>
          <p:nvPr/>
        </p:nvSpPr>
        <p:spPr>
          <a:xfrm>
            <a:off x="5056200" y="4511520"/>
            <a:ext cx="9763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bleu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ZoneTexte 9"/>
          <p:cNvSpPr/>
          <p:nvPr/>
        </p:nvSpPr>
        <p:spPr>
          <a:xfrm>
            <a:off x="6431400" y="4290840"/>
            <a:ext cx="775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reA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Connecteur droit 11"/>
          <p:cNvSpPr/>
          <p:nvPr/>
        </p:nvSpPr>
        <p:spPr>
          <a:xfrm flipH="1">
            <a:off x="2941200" y="2001960"/>
            <a:ext cx="1965240" cy="93636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Connecteur droit 13"/>
          <p:cNvSpPr/>
          <p:nvPr/>
        </p:nvSpPr>
        <p:spPr>
          <a:xfrm>
            <a:off x="4906800" y="2001960"/>
            <a:ext cx="644760" cy="9730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Connecteur droit 16"/>
          <p:cNvSpPr/>
          <p:nvPr/>
        </p:nvSpPr>
        <p:spPr>
          <a:xfrm>
            <a:off x="4906800" y="2001960"/>
            <a:ext cx="2778120" cy="9730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Connecteur droit 18"/>
          <p:cNvSpPr/>
          <p:nvPr/>
        </p:nvSpPr>
        <p:spPr>
          <a:xfrm flipH="1">
            <a:off x="4146120" y="3344760"/>
            <a:ext cx="1405080" cy="94932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Connecteur droit 22"/>
          <p:cNvSpPr/>
          <p:nvPr/>
        </p:nvSpPr>
        <p:spPr>
          <a:xfrm flipH="1">
            <a:off x="5543640" y="3344760"/>
            <a:ext cx="7920" cy="116676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Connecteur droit 24"/>
          <p:cNvSpPr/>
          <p:nvPr/>
        </p:nvSpPr>
        <p:spPr>
          <a:xfrm>
            <a:off x="5551560" y="3344760"/>
            <a:ext cx="1266840" cy="9460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30T19:45:39Z</dcterms:created>
  <dc:creator>GR</dc:creator>
  <dc:description/>
  <dc:language>en-US</dc:language>
  <cp:lastModifiedBy>GR</cp:lastModifiedBy>
  <dcterms:modified xsi:type="dcterms:W3CDTF">2018-09-04T20:06:15Z</dcterms:modified>
  <cp:revision>6</cp:revision>
  <dc:subject/>
  <dc:title>Présentation PowerPoint</dc:title>
</cp:coreProperties>
</file>