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E6B0-AFB1-439A-8907-27124E6F0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2A63-9149-46D3-AAE5-9C21223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945A-331D-4CB3-94B8-24B4370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B0B9-AFB4-48E0-BCFE-2AACC506B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EAC2-A99A-471A-AF34-50919FA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9AAD-9861-48A4-A5A6-B0F55CDC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6504-EBB9-4483-B981-D718F8E4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0C48-3ACF-4EE3-85BC-7255E68F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4CFD-C83A-4127-BA54-24220EF0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5BA3-5BB5-489A-BB0F-D7C852D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52D7-FE27-45DE-8441-48F90347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0C5D-5D26-4B6E-89BB-06F2D838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8F316C-6BF3-435C-B5CA-79A98EAB7098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4720" y="1584360"/>
            <a:ext cx="676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rê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559240" y="2938320"/>
            <a:ext cx="8438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175360" y="2975040"/>
            <a:ext cx="7934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7125840" y="2975040"/>
            <a:ext cx="126576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802680" y="4294080"/>
            <a:ext cx="7858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474960" y="4290840"/>
            <a:ext cx="775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940120" y="2001960"/>
            <a:ext cx="1968480" cy="9363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44680" y="3344760"/>
            <a:ext cx="1407960" cy="94932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41480" y="3344760"/>
            <a:ext cx="11160" cy="11667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/>
  <dcterms:modified xsi:type="dcterms:W3CDTF">2020-01-17T22:15:28Z</dcterms:modified>
  <cp:revision>7</cp:revision>
  <dc:subject/>
  <dc:title>Présentation PowerPoint</dc:title>
</cp:coreProperties>
</file>