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AA13-616E-4797-B71E-62607DA8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2359-9D94-4C29-86EF-F30141D4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8A6-FF17-401B-B827-66DAB7DF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255-2642-48C0-ADA2-FD5527C1E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A615-3BFD-42EC-B53A-89FB706B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CC13-6427-4206-9710-41F4CD82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E16-9A3D-4E8D-A26B-F9D6F57C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A330-9E67-4298-98CA-615FBB0E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B7FF-8E26-4AA2-A8EE-6F1E7F21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30D2-0E5C-4AD8-BD5A-A0EA002D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DAE-4CEE-4812-94A3-5DA68A66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8DAD-2D71-4D0A-BE08-C6751DFD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96453-45AE-41F7-BA3F-AE22302B02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3"/>
          <p:cNvSpPr/>
          <p:nvPr/>
        </p:nvSpPr>
        <p:spPr>
          <a:xfrm>
            <a:off x="3903480" y="1633680"/>
            <a:ext cx="2004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NOM_Prenom_TD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oneTexte 4"/>
          <p:cNvSpPr/>
          <p:nvPr/>
        </p:nvSpPr>
        <p:spPr>
          <a:xfrm>
            <a:off x="2519640" y="2938320"/>
            <a:ext cx="843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ZoneTexte 5"/>
          <p:cNvSpPr/>
          <p:nvPr/>
        </p:nvSpPr>
        <p:spPr>
          <a:xfrm>
            <a:off x="5154840" y="2975040"/>
            <a:ext cx="79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ut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oneTexte 6"/>
          <p:cNvSpPr/>
          <p:nvPr/>
        </p:nvSpPr>
        <p:spPr>
          <a:xfrm>
            <a:off x="7052760" y="2975040"/>
            <a:ext cx="1265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uvegar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ZoneTexte 7"/>
          <p:cNvSpPr/>
          <p:nvPr/>
        </p:nvSpPr>
        <p:spPr>
          <a:xfrm>
            <a:off x="3753720" y="4294080"/>
            <a:ext cx="785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ZoneTexte 8"/>
          <p:cNvSpPr/>
          <p:nvPr/>
        </p:nvSpPr>
        <p:spPr>
          <a:xfrm>
            <a:off x="5056200" y="4511520"/>
            <a:ext cx="976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bleu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oneTexte 9"/>
          <p:cNvSpPr/>
          <p:nvPr/>
        </p:nvSpPr>
        <p:spPr>
          <a:xfrm>
            <a:off x="6431400" y="4290840"/>
            <a:ext cx="7750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eA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Connecteur droit 11"/>
          <p:cNvSpPr/>
          <p:nvPr/>
        </p:nvSpPr>
        <p:spPr>
          <a:xfrm flipH="1">
            <a:off x="2941200" y="2001960"/>
            <a:ext cx="1965240" cy="9363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Connecteur droit 13"/>
          <p:cNvSpPr/>
          <p:nvPr/>
        </p:nvSpPr>
        <p:spPr>
          <a:xfrm>
            <a:off x="4906800" y="2001960"/>
            <a:ext cx="64476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16"/>
          <p:cNvSpPr/>
          <p:nvPr/>
        </p:nvSpPr>
        <p:spPr>
          <a:xfrm>
            <a:off x="4906800" y="2001960"/>
            <a:ext cx="2778120" cy="973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Connecteur droit 18"/>
          <p:cNvSpPr/>
          <p:nvPr/>
        </p:nvSpPr>
        <p:spPr>
          <a:xfrm flipH="1">
            <a:off x="4146120" y="3344760"/>
            <a:ext cx="1405080" cy="9493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Connecteur droit 22"/>
          <p:cNvSpPr/>
          <p:nvPr/>
        </p:nvSpPr>
        <p:spPr>
          <a:xfrm flipH="1">
            <a:off x="5543640" y="3344760"/>
            <a:ext cx="7920" cy="11667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Connecteur droit 24"/>
          <p:cNvSpPr/>
          <p:nvPr/>
        </p:nvSpPr>
        <p:spPr>
          <a:xfrm>
            <a:off x="5551560" y="3344760"/>
            <a:ext cx="1266840" cy="94608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0T19:45:39Z</dcterms:created>
  <dc:creator>GR</dc:creator>
  <dc:description/>
  <dc:language>en-US</dc:language>
  <cp:lastModifiedBy>GR</cp:lastModifiedBy>
  <dcterms:modified xsi:type="dcterms:W3CDTF">2018-09-04T20:06:15Z</dcterms:modified>
  <cp:revision>6</cp:revision>
  <dc:subject/>
  <dc:title>Présentation PowerPoint</dc:title>
</cp:coreProperties>
</file>