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9658-E5E4-4B8E-8C4B-EC976D2FD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1E99-628F-41D3-A710-A2D2FC4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F388-1057-46FC-AB19-9AFCD37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E2F1-E50E-4785-BA07-1F9B1572D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C175-EF34-4E4B-AD99-338E1D6C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C3C3-138C-4531-8541-550A7FF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3586-E490-4875-B0D5-51629045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2734-F4E9-4DD7-9499-018F166F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FF0E-CF6A-4535-8278-A52CDBAE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7C9A-522E-402C-AD5C-5B327E4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9BDC-B4B8-479B-A611-EEE3088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2B23-A321-42CB-AAEA-84DC9873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5525C6-EFFF-4299-8A6C-D4298A360E9E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4720" y="1584360"/>
            <a:ext cx="676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rê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559240" y="2938320"/>
            <a:ext cx="8438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175360" y="2975040"/>
            <a:ext cx="79344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7125840" y="2975040"/>
            <a:ext cx="126576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802680" y="4294080"/>
            <a:ext cx="7858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474960" y="4290840"/>
            <a:ext cx="775080" cy="3682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940120" y="2001960"/>
            <a:ext cx="1968480" cy="9363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44680" y="3344760"/>
            <a:ext cx="1407960" cy="94932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41480" y="3344760"/>
            <a:ext cx="11160" cy="116676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/>
  <dcterms:modified xsi:type="dcterms:W3CDTF">2020-01-17T22:15:28Z</dcterms:modified>
  <cp:revision>7</cp:revision>
  <dc:subject/>
  <dc:title>Présentation PowerPoint</dc:title>
</cp:coreProperties>
</file>