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AEF1-5844-471E-BE50-2426450B49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31CF-C614-4261-B675-62135E48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40CC-6E18-48BA-A677-528A6852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31BF-3FA9-40F5-BC59-BA09CC0C0D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E2F8-759A-4D7D-BBB2-8FF638D4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886C-907B-4590-AD0B-CF14677A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8EAA-3A3D-468E-ABBB-C06DEFF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C9D2-9992-472B-A4D6-EEC7A8CC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DAC5-0886-4E96-A699-A9BEB467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780D-F777-4F5A-A8C0-90DEC0E7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B16C-7690-4677-9D2C-5A2A1F1D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2708-DC1C-410F-83B7-86FE99E8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FAFB64-8AF5-4DCA-9421-A0BD366577B9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54720" y="1584360"/>
            <a:ext cx="6760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orê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559240" y="2938320"/>
            <a:ext cx="84384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175360" y="2975040"/>
            <a:ext cx="79344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7125840" y="2975040"/>
            <a:ext cx="126576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802680" y="4294080"/>
            <a:ext cx="7858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474960" y="4290840"/>
            <a:ext cx="7750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940120" y="2001960"/>
            <a:ext cx="1968480" cy="93636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144680" y="3344760"/>
            <a:ext cx="1407960" cy="94932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41480" y="3344760"/>
            <a:ext cx="11160" cy="116676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/>
  <dcterms:modified xsi:type="dcterms:W3CDTF">2020-01-17T22:15:28Z</dcterms:modified>
  <cp:revision>7</cp:revision>
  <dc:subject/>
  <dc:title>Présentation PowerPoint</dc:title>
</cp:coreProperties>
</file>